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1E9-1BF2-4160-918D-0B713105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314-DEF3-4526-AA62-0CF0E393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0CF-A527-4623-8FA1-E2143D9C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555-DB49-4750-BBB9-5E4B5C83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425-3A1B-4CA1-8E0E-5AF87D8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C0B-97C8-408F-9A00-C81AB71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686-AA68-47D8-BCB7-46979B3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44D-6E30-4EF2-998E-170669AC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16B-41EE-49FD-AE28-3F494AC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C26-FD7C-4DCE-8814-5680AAB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AF9-773F-40EC-BEA8-AF60EA2E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40A-F3C7-47BC-9DAF-2EE0FB0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477-067F-4C0F-829F-9693A28F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0574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8991720" cy="31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9132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236520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651200" cy="465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6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60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0:25Z</dcterms:created>
  <dc:creator>cdoty</dc:creator>
  <dc:description/>
  <dc:language>en-US</dc:language>
  <cp:lastModifiedBy>rcipolla</cp:lastModifiedBy>
  <dcterms:modified xsi:type="dcterms:W3CDTF">2009-03-10T18:57:53Z</dcterms:modified>
  <cp:revision>8</cp:revision>
  <dc:subject/>
  <dc:title>Slide 1</dc:title>
</cp:coreProperties>
</file>